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B2EE-173E-4640-9AE7-A206BA91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6685-F7CC-46B5-92B0-85074613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2917-DB90-4C48-A332-5366FFEE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50B8-08B5-4C93-86A6-B933B2DC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9FD4-B911-4C4D-9CAE-D396D2BE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30E6-CFA5-4026-A4FC-B28F0536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92D7-81B3-42F8-8C35-613CE40E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1A46-4377-44D5-8095-1AF5AE01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42E0-46DE-425D-83F6-CFEBF3C9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95BD-13DD-4BA8-B23B-5DE440FA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34C2-C000-46C4-BEDD-09AF4F90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3EA9-5B1B-4971-866A-EAA56733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2789-BAAB-46D9-AABA-5E4C3C78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58E3-6BCB-4818-9D1E-5A93572C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CD37-3EAF-4010-B945-AB5B3A76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0C23-4817-4397-9352-E9C0598B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B417-03DE-4C31-9EDB-21519460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ADBA-E4BF-475D-88E0-E2E22729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85D-323D-4528-A84F-93BA1D65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7671-9872-48A4-A326-BF964545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BD57-072D-477A-9196-019AFCBA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7ECF-F990-4C38-BF37-BD4F3DDA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A053-2822-4F27-A4D5-67EAA483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0083-32AA-4EB7-83C5-A272680D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2f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84A7-4F65-4F83-9D0D-BFE3F99BA61E}" type="datetime3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1 de julio de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1D8D-3648-4210-AA74-56F413BD318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2f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0E0E-904D-49E5-90B3-7B79EBCABF1D}" type="datetime3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1 de julio de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D6EC-B351-4A83-ADAE-0593F8CCA86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120" y="190476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      “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TODO LO QUE SE IGNORA SE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DESPERDICIA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Antonio Machado (1875-1939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C4D1620-C310-43D9-AA0D-CF9205DEF5A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ATRIMONIO MU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UOTAS Y DEMAS APORTES SO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BIENES ADQUIRIDOS Y SUS FRU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NTRIBUCIONES, LEGADOS Y SUBSID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TODO OTRO RECURSO LICI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F0164-6540-4CAD-9500-C6265CA94A5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98560" y="2119320"/>
            <a:ext cx="7340400" cy="3944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IBROS RUBRIC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OCIET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DE ACTAS DE ASAMBL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DE CONSEJO DIRE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DE JUNTA FISCALIZAD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INVENTARIO Y BAL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CAJA / DIARIO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OTR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DOCUMENTACIÓN RESPALDATOR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E4B6A-018E-448D-A3EF-11DA4959F98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98560" y="1484280"/>
            <a:ext cx="7340400" cy="4579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GISTRACIÓN Y EXPOSI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- LIBROS RUBRICADOS: SOCIETARIOS Y CONT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ctr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Times New Roman"/>
              </a:rPr>
              <a:t>LAS REGISTRACIONES DEBEN SER CLARA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ctr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Times New Roman"/>
              </a:rPr>
              <a:t>PLAN DE CUENTAS ACORDE A LA ACTIVIDAD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ctr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Times New Roman"/>
              </a:rPr>
              <a:t>ANEXOS Y CUADROS QUE GARANTICEN  LA TRANSPARENCIA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ctr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Times New Roman"/>
              </a:rPr>
              <a:t>EXPOSICIÓN R.T. Nº 8, 11 Y 17 y 19 F.A.C.P.C.E., ESTABLECIDO POR LA RES.Nº 1780/02 DEL I.N.A.E.S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9CE99-9352-4182-9928-C2A173E5924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R.T. Nº 11 F.A.C.P.C.E., establece estados contables básic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De situación patrimonial o balance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De recursos y ga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De Evolución del Patrimonio N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De Flujo de Efec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A0B53-EC9A-48D4-A07D-F4A71EA61F7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2" marL="11430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imes New Roman"/>
              </a:rPr>
              <a:t>ASESOR EX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OCIMIENTO DE LAS PRESTACIONES MUTU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ALI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GU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B0D47-32FA-46BB-9DFB-8DFC2C66B53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EY N° 25374/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AES - NOVE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IMINACION DE LA FACULTAD DE INTERVENCION EN FORMA DIREC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STANCIA JUDICIAL PARA RESOLVER NULIDAD E INTERVENCION ADMINISTRATI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CORPORAR LAS MUTUALES AL REGIMEN DE CONCURSOS Y QUIEBRAS -LEY 2452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TORIZAR EL USO DEL CODIGO DE DESCUENTO PARA EMPLEADOS DEL ESTADO 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30CCD-1B9F-42F2-BC25-039CD9FB677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CODIGO DE DESCU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MUTUAL FIRMA CONVENIO CON EMPLEADOR ASOCI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ASOCIADO AUTORIZA DESCUENTO AL EMPLE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MUTUTAL FIRMA CONVENIO COMER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ASOCIADO SOLICITA O/C A LA MUT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49DDC-EC50-4DDA-B23D-BAB4B101406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CONVENIOS INTERMUTUALES  O  DE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COLABO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NO ES NECESARIA LA RECIPROC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MAYOR INGRE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BRINDA MAS SERVICIOS SIN INVER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A9937-C7A3-4D44-B26C-6651BB478B9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Times New Roman"/>
              </a:rPr>
              <a:t>ASPECTO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Times New Roman"/>
              </a:rPr>
              <a:t>IMPOSITIV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84000-443E-4BB2-B034-F9558EC3E23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IMPUESTO A LAS GANAN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RESOLUCIÓN 1815/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ESTABLECE RÉGIMEN GENERAL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EMPADRONAMIENTO ENTIDADES EXENTAS DE LOS INC. b), d), e), f), g), m) y r) del artículo 20 de la ley del impuesto a las ganan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C2C87-4325-4D45-9485-A0B81AC4F6B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657000"/>
            <a:ext cx="7710480" cy="91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IPO DE ORGAN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RT 2° LEY 203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N FINES DE LUC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SPIRADOS EN LA SOLIDA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RINDARSE AYUDA RECIPRO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RIBUCION PERIOD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UJETO DE DEREC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ART. 3º  LEY 203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14214-6E13-486A-9BDC-6A04D489AB1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8560" y="2050920"/>
            <a:ext cx="7340400" cy="401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8000"/>
          </a:bodyPr>
          <a:p>
            <a:pPr lvl="1" marL="8715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OTIV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71560" indent="-46944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AZONES ADM. TRIBUT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71560" indent="-46944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CISAR INCUMPLIMIE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71560" indent="-46944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CANZAN A ENTIDADES EN ESPECIAL COOPERATIVAS Y MUTU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71560" indent="-46944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ANTES Y DONAT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71560" indent="-46944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ROGA RES.GRAL. Nº 729/99, 885/00 Y 1675/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715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8D0FE-E282-4F01-96BC-938EB84A0AC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5000"/>
          </a:bodyPr>
          <a:p>
            <a:pPr lvl="1"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QUISI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 – Con carácter Gener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) Presentación F 699 (N.M.)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iginal y Copia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) C.U.I.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) 1) Con reconocim. Antes Res729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) Empadronados s/ 729, F 70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3) Empadronados s/ 1815 F 709 N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71968-8A63-4BFF-93CC-F0FAD2DB6B6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) Estatutos firm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) Modificaciones posteri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) Acta nombramiento autor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) Últimos 3 Balances Generales, demás estados y memo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) Datos actualizados R.G. 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6E510-C228-4255-9AB4-A513F267EAF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2" marL="140976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4097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)  Acuse de recibo de D.J. 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4097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) R.G. 992 (APLICATIVO GCI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4097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) R.G. 41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4097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3) Régimen información donacio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02520-46A2-45B2-BA18-17DA68A2252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1000"/>
          </a:bodyPr>
          <a:p>
            <a:pPr lvl="2" marL="10400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I – COMPLEMENTARIOS (original y  fotocopia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gún su ti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) Exentos por leyes nacional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ey que lo orig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) Cooperativas y Mutuales, Pe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Jurídica e inscrip. INAES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2A0E3-55D3-49C5-B85B-C091FE817DB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III – EXCEPCIONE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No para las Cooperativas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y Mutuale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A3896-678F-4870-ADD8-C5690BAC7D7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MPADRONAMIENTO EN TRÁM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dmisibilidad de solicit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ublicación página web de la A.F.I.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azón Social, C.U.I.T., e Inc. Art. 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e podrá obtener Form 409, no reten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ni percep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3" marL="16002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429A7-6C20-4E9C-882F-C610BC87A31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2" marL="11430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PODRÁ LA AFIP SOLICITAR AMPLIACIÓN DE DATOS SUMINISTRADOS DENTRO DE LOS 20 DÍAS PARA OTORGAR LA ADMISIBILIDAD COMO SOLICITAN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C9048-6B78-4A49-80DF-59516C0EEFE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HABIEND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DEMOSTRADO QUE LOS ELEMENTOS PRESENTADOS SON PROCEDENTES SE OTORGARÁ EL RECONOCIMIENTO DE LA EXEN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D71A7-4010-43D9-A3DE-A1AFF6BB665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2" marL="11430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AFIP OTORGARÁ F. 709 (NM), 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ertificado d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XENCIÓN A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uscripto por el Juez Administrativo, publicada en la página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VIGENCIA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que disponga el Juez Administra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15B52-6375-4421-915D-E9EF794C457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6880" y="60912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ASOCIACIONES MUTUT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UTORIDAD DE APLICACIÓN Y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STITUTO NACIONAL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SOCIATIVISMO 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NOMIA SO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I.N.A.E.S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4147E-F827-40BD-AF67-7DEABCA397D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3" marL="1600200" indent="0" algn="ctr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 algn="ctr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DENEGACIÓN DE L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 algn="ctr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EXEN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 algn="ctr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 algn="ctr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or resolución fundada del Juez Administrativo actuan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 algn="ctr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F2020-039A-49F3-8152-FA20E90CACF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2" marL="11430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ISCONFORMIDAD CON LA DENEGATO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entar la disconformidad mediante nota (R.G. 112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compañar nuevos elementos dentro de los 15 dí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4BA66-E2F1-4AE5-9C5E-E1F08A09339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8560" y="1981080"/>
            <a:ext cx="7340400" cy="4083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érdida de exención por controles posterior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ja sin efecto el reconocimiento o el trámite de reconocimi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FECTOS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sde la presentación de la solicitud (empadronamiento en trámi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sde cuando el juez lo disponga (con exención reconocid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specto de los donantes y agentes de retención o percepción: desde su publ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04D58-DE71-4119-9CCE-11CBB3CF862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CONSECUENCIA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 – Ingresar impuesto a las ganan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I – No podrán solicitar que no se le    practiquen retenciones o percep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II – Los 3º no podrán computar como deducciones las donaciones a los del Inc. b) art. 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V – Devolver el certificado de Ex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8B1B7-813A-4569-93ED-5BF4CC1E481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podrá recurrir de acuerdo al art. 74 del Decreto 1397/7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s solicitudes presentadas que queden sin efecto, de los sujetos del art. 3,  recurrirán de acuerdo al art. 9 y concordantes de esta R.G. 18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A43B3-C399-45C1-BF81-63195EE1C2F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NOVACIÓN DEL CERTIFICADO      DE EXENCIÓN A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sta 60 días hábiles antes de su vencimiento, mediante F. 373, ver si hay cambios en la document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urante el trámite conservarán el reconocimi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98A0D-A41A-4A24-8B3F-9B0C0F77FB4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U INCUMPLIMIENTO PRODUCE LA PÉRDIDA AUTOMÁTICA DEL RECONOCIMIENTO DE LA EX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L VENCIMIENTO, SE DEBERÁ INICIAR UN NUEVO TRÁM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40FE6-A6EE-463B-91B6-C91886921BC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NTIDADES CON TRÁMITES PENDIENTES (no obtenido Fº 70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) Con reconocim. antes de empadronarse según R.G. 72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B) Empadronadas con arreglo a la R.G. 729 obtendrán F 411, presentarán F 366, ajustándose a la presente nor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A477D-5E9F-4060-9D95-12ABA98E153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ACREDITANCIÓN ANTE TERCER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ormulario F. 40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ormulario F. 709 ó F. 709 (N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CCE92-E194-4B3B-9951-7141DAEF08F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n caso de no corresponder la invocación de 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EXENTO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, el 3º deberá informar a la AFIP mediante Multinota contenien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) Los datos del presenta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B) Los datos de quien alega la ex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) Exposición de mot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) Firma y carácter invocado de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FORMA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8A632-9F39-462F-8611-2AC99DEF14C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657000"/>
            <a:ext cx="7854840" cy="91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NATURALEZA Y ASPECTOS LEG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LEY 20321/2537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4E1DD-48D2-4C15-BB58-F333D4FC5A6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ERDERÁN SU CONDICIÓN DE EXENTAS HASTA TANTO REGULARICEN SU SITUACIÓN, SIN PERJUICIO DE LAS SANCIONES PREVIS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QUE TENGAN TRÁMITE DE EXENCIÓN (F. 366 Y 411) SE ARCHIVA LA SOLICITU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RESTANTES PASAN A ARCHIVO Y DECAÍMIENTO  DE BENEFICIOS DESDE LA FECHA DE PRESENT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4ACBC-8E88-4F04-B81E-D39D10406C0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br>
              <a:rPr sz="4400"/>
            </a:b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98560" y="1981080"/>
            <a:ext cx="7340400" cy="4083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INCUMPLIMIEN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No presentar D.D.J.J. S/ R.G. 99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No presentar D.D.J.J. R.G. 41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No contestar total o parcialmente los requerimie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No denunciar domicilio fiscal o inexist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AAF4D-4721-43B7-B210-DC33EC95F36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9900"/>
                </a:solidFill>
                <a:latin typeface="Arial"/>
              </a:rPr>
              <a:t>ASOCIACIONES MUTUTALES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DOMICIL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REAL: C. CIVIL art. 44, 89 a 1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FISCAL: Ley 11683 art. 3, R.G. 10 Y R.G. 301 modificatorias  “ donde se ejerce la administración superior ejecutiva y gerencia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Donde se encuentre la dirección o administración principal y efectiva (Dictamen 117/200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AB591-47A2-4A61-B216-39BAEFC1E82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es. General 992 estable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esentación de balances a partir del     31/08/2003 mediante aplicativo de sociedades comerci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esentación de informe para fines fisc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atos a completar: Activo, Pasivo, Estado de Resultados y Patrimonio Ne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D56DD-4404-4EB3-9466-DE7ABC3A15E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NO SE COMPLETAN LAS PANTAL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Ajustes para la determinación de  resul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Resultado atribuible a los so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Quebrantos anteri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Tranferencia de tecnología e inversiones  extranje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NO INGRESAR DATO ALGUNO EN LA OPCIÓN RESULTADOS DE D.D.J.J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728F4-774C-4CD4-AD4D-0ACFE695CFF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INGRESOS BRUT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C.A.B.A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ORDENANZA FISCAL 2007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EXCENTO ART. 34 Inc. 5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BFEA6-74AE-44BA-9B7D-4D50D0CAC46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PROVINCIA DE BUENOS AI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ORDENANZA FISCAL 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EXCENTO ART. 180 Inc. e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20BD4-F38B-4DE8-A953-03E47D07D43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RESTO DE LAS JURISDICCIO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CADA UNA DE ELLAS TIENE SUS PROPIAS DISPOSICION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293AB-A3CD-4583-A5F3-1F40312E2AD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FALLO DE LA CORTE SUPREMA DE JUSTICIA DE LA NACIÓN: autos “Club 20 de febrero c/AFIP” evidencia que la franquicia del art. 3º, inc. D) pto. 1), de la ley 16656 es aplicable al 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A4293-36D8-418B-9AB9-2978BCBB8D0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RESOLUCIÓN  GENERAL Nº 41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COOPERATIVAS EXENTAS ART.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RES. 1583/03 EXCLUYE: INSTITUC. RELIGIOSAS, ASOC. COOPERADORAS ESCOLARES, ASOC Y FUNDACIONES DESTINEN FONDOS ACTIV. HOSPITALARIA O BOMBEROS VOLUNT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AE483-2E0C-471E-8AAB-91A2E6C685B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br>
              <a:rPr sz="4400"/>
            </a:b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98560" y="1557000"/>
            <a:ext cx="7340400" cy="4506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4000"/>
          </a:bodyPr>
          <a:p>
            <a:pPr lvl="2" marL="1074240" indent="-21456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TACIONES MUTU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RT. 4° LEY 203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INANCIADAS C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RIBUCION PERIOD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HORRO DE LOS ASOCI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ALQUIER RECURSO LIC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ATISFAC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ECESIDADES PARTICUL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ESTAR MATERIAL Y ESPIRIT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EC07C-2D47-4693-8768-2F853EB098A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DICTAMEN 1403 EXIME A LOS CONSOR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R.G. 1777/04 EXCLUYE COMUNIDADES INDIGEN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FALLO T.F. SALA C 30/08/06 DETERMINA QUE NO CORRESPONDE SANCIÓN A ENTIDAD SIN FIN DE LUCRO POR NO SER SUJETO DE R.G. 41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5DD88-218F-447A-A3BA-B014DA1536C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  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UCHAS GRA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abel Beatriz Cambe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cambeiro@cponline.org.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0E774-2310-44F5-8F70-6B2A3B2633D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3" marL="160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- PRESTACIONES MUTU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DE CARÁCTER ECONÓMICO, SALUD, EDUCATIVAS, CULTURALES, PREVISIONALES,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- ESTATUTOS ART. 6º LEY 20.3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- REGLAMEN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- CONVEN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- ASOCI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0123F-9AEE-4D84-8A61-FFB5F5F84E2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SESORAMIENTO Y CAPACITACION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ISION DIREC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UNTA FISCALIZAD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MPLE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SOCIAD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OLUNT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D9CB7-C765-4AE3-A97E-B292AA7C2E4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DMINISTRACIÓN DE MUTU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GANO DIRECTIVO (5 MIEMB. O MÁS), ATRIBUCIO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ART. 16º DE LA  LEY 20.32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GANO DE FISCALIZACIÓN (3 MIEMB. O MAS), (A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7º DE LA LEY 20.321)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4108C-FFBF-4192-8CB8-702DBF5AAB9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ASOCIACIONES MUTUA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RGANO DIRECTIVO Y DE FISCALIZACIÓN (ART 14 LEY 2032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 MANDATO HASTA 4 AÑ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 PODRÁ SER REELEGI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 REVOCABLE POR ASAMBLE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XTRAORD. CON MAYOR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SPECIAL 2/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CABA - CP Mabel Beatriz Cambei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A53F4-B4DB-465B-A92E-D0A9E188224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22:26:06Z</dcterms:created>
  <dc:creator>Norberto Luis Aguirre</dc:creator>
  <dc:description/>
  <dc:language>en-US</dc:language>
  <cp:lastModifiedBy>Usuario</cp:lastModifiedBy>
  <cp:lastPrinted>2002-11-08T19:05:13Z</cp:lastPrinted>
  <dcterms:modified xsi:type="dcterms:W3CDTF">2007-05-09T18:34:49Z</dcterms:modified>
  <cp:revision>74</cp:revision>
  <dc:subject/>
  <dc:title>ASOCIACIONES MUTUALES</dc:title>
</cp:coreProperties>
</file>